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6EF1-18D0-4BB8-B746-878EE254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58F1-DB76-4060-9904-5C10B55E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1D0D-8F15-4A24-9EF8-9EB58299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A89A-95C5-4FF3-972D-1DA6776A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EEB1-26AB-49E0-8423-24AD7B21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207D-1FDF-4690-8829-E9CDE6E6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66DF-140E-4500-8639-D2E6222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E9A7-6192-43FB-8156-6247F99C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B945-B956-4F5B-9947-8AD6AEF7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3478-3496-4B7B-95BA-3F79BCB2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2CA2-E75D-4B84-B231-E60013F4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5E75-72CB-4489-8B19-D732E440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DCB6-81BB-4185-8DD7-CB8A586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1FD4-9A76-4697-AFB4-08EC567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7490-E0F2-4013-AC29-9EA3010E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E9B6-E4C1-4090-B82E-C40CDEB3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22DB-4068-45DA-8E00-D5AE71CB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5B37-8A86-4575-ADDE-7BDC8EBD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1D27-D06D-4B05-B62A-331C6ECB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7D50C-94D8-491F-991E-56863B88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B850-E9CE-44CD-A502-8E62F58A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1911-49FF-4D3B-BE6E-79BB5BAD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A75B-3FF9-45E4-A175-71CD8899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4A49-C52B-4713-8865-A149CEAB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C93E-84C4-4C4C-BADB-FDB9D8FD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B3D3-1DA2-4C92-B0AB-EF6884DC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625F-FDAA-4DE0-A3AD-AAC79AC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6F5E-17E6-4CAB-9E0A-EB4B5763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0B6D-5D0A-44FD-B1A9-6F7CA0F8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A604-CFA4-455F-80F3-F95A6F65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43EEE-0C63-412B-B73C-D0A913A0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478C-BCBE-4053-97D0-64A3C5C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E772-C981-4F66-861D-CCFB7DE7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884B-B98C-4520-80A8-D5AD299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9DE4-426C-4E4F-A2BE-76784BED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EA491-63C9-4E69-80CC-F19379AC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3FB5-8834-48AE-A04C-7D7738E8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768C-FFCF-4E3B-B669-1191C3A8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11ACA-C312-4C7E-A6EA-B4C4FEE7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61C44-DA1C-4734-92BE-919F26C2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860C-2A6D-4369-8CE5-68782CD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5731A-5DBF-4645-90FA-4068044F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B7CF-0A39-40F3-8329-A1BCBEBD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F9257-631A-48D5-964E-0C13BCE0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FBC3-2A86-4D26-BFC1-36183451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58C1D-8D9D-4885-A567-4EB8A9D3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268E-52A6-4089-AA58-EE5E2732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6B1F9-4975-4AD4-A6A3-D338DAAB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5917-3F1E-4FA4-AF96-59869270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848C-4602-436B-B583-CA4D52E6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F866-6272-4671-8C9F-000760F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6A21-F987-4271-8739-DFC6FEC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D93A-87B7-41A6-BCE4-5655CE21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A1241-0435-48A6-9CD4-D2925DC8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BB071-711B-4E2A-AF6E-28D8E217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A926-055A-4577-8BD7-6BA8A3EB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4A5AC-8F46-4705-A95D-BFA31DB1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75B8-E915-4F86-9E0A-8E79828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B010-A007-4A20-B5C8-C2B1CEE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65E5-E75A-4ED8-BE29-95E65431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1E50-19D1-4973-8E8B-69FB2B6EA01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A60A-2E24-4ABC-A969-4E10B5E2352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D0C6-1E27-4BD9-B725-A3258188DF6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B0D-392F-4538-9547-C33558DBB55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B4CE-AF83-4151-BBFE-9E06F17E01D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35049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роки проведения процедуры: 05.05.2015 года – 19.06.2015 года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Эксперт – консультант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елая Раиса Васильевна- </a:t>
            </a:r>
            <a:r>
              <a:rPr b="0" lang="ru-RU" sz="1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рший научный сотрудник к.э.н. Институт экономики КарНЦ РАН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рший аналитик Некомерческое партнерство центр социального анализа и реконструкции «Социологос»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33560" y="25146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сперты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.Костина Мария Геннадьевна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учитель – дефектолог отделения социальной реабилитации детей – инвалидов, детей и подростков с ОВЗ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Мыхина Светлана Михайловна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заведующая отделением срочного социального обслуживания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.Товстая Василиса Владимировна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заведующая отделением социальной помощи на дому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ниципальное казенное учреждение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омплексный центр социального обслуживания населения»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хденпохского муниципального район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65530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60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2b20"/>
                </a:solidFill>
                <a:uFillTx/>
                <a:latin typeface="Times New Roman"/>
                <a:ea typeface="Times New Roman"/>
              </a:rPr>
              <a:t>Состав и количество участников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го получателей: 8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ционар: 21 участник процедуры НСОК – 91,3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устационар: 41 участник процедуры НСОК – 14,1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дому: 24 участника процедуры НСОК -  11,4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го сотрудников - 58 участников процедуры НСОК - 70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го партнеров в организации 56, участие в анкетировании приняли  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ционар: 7  участников процедуры НСОК - 100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устационар:  7  участников процедуры НСОК -  100%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дому: 7  участников процедуры НСОК -  100%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2b20"/>
                </a:solidFill>
                <a:uFillTx/>
                <a:latin typeface="Times New Roman"/>
              </a:rPr>
              <a:t>Удовлетворенность получателей услуг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Calibri"/>
              </a:rPr>
              <a:t>Удовлетворенность качеством доступностью условий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223" name="Object 41"/>
          <p:cNvGraphicFramePr/>
          <p:nvPr/>
        </p:nvGraphicFramePr>
        <p:xfrm>
          <a:off x="1447920" y="2666880"/>
          <a:ext cx="54864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54864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45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800" y="8928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27" name="Диаграмма 8" descr=""/>
          <p:cNvPicPr/>
          <p:nvPr/>
        </p:nvPicPr>
        <p:blipFill>
          <a:blip r:embed="rId3"/>
          <a:stretch/>
        </p:blipFill>
        <p:spPr>
          <a:xfrm>
            <a:off x="907920" y="2127240"/>
            <a:ext cx="64137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13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0" lang="ru-RU" sz="14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400"/>
            </a:br>
            <a:r>
              <a:rPr b="0" lang="ru-RU" sz="14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r>
              <a:rPr b="1" lang="ru-RU" sz="1300" spc="-1" strike="noStrike">
                <a:solidFill>
                  <a:srgbClr val="675e47"/>
                </a:solidFill>
                <a:latin typeface="Cambria"/>
              </a:rPr>
              <a:t> </a:t>
            </a:r>
            <a:br>
              <a:rPr sz="1300"/>
            </a:br>
            <a:br>
              <a:rPr sz="1300"/>
            </a:br>
            <a:r>
              <a:rPr b="0" lang="ru-RU" sz="2200" spc="-1" strike="noStrike" u="sng">
                <a:solidFill>
                  <a:srgbClr val="2f2b20"/>
                </a:solidFill>
                <a:uFillTx/>
                <a:latin typeface="Times New Roman"/>
                <a:ea typeface="Times New Roman"/>
              </a:rPr>
              <a:t>Работники: самооценка профессиональных </a:t>
            </a:r>
            <a:br>
              <a:rPr sz="2200"/>
            </a:br>
            <a:r>
              <a:rPr b="0" lang="ru-RU" sz="2200" spc="-1" strike="noStrike" u="sng">
                <a:solidFill>
                  <a:srgbClr val="2f2b20"/>
                </a:solidFill>
                <a:uFillTx/>
                <a:latin typeface="Times New Roman"/>
                <a:ea typeface="Times New Roman"/>
              </a:rPr>
              <a:t>компетенций и удовлетворенность качеством</a:t>
            </a:r>
            <a:br>
              <a:rPr sz="2200"/>
            </a:b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229" name="Диаграмма 6" descr=""/>
          <p:cNvPicPr/>
          <p:nvPr/>
        </p:nvPicPr>
        <p:blipFill>
          <a:blip r:embed="rId1"/>
          <a:stretch/>
        </p:blipFill>
        <p:spPr>
          <a:xfrm>
            <a:off x="450720" y="1822320"/>
            <a:ext cx="785808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2b20"/>
                </a:solidFill>
                <a:uFillTx/>
                <a:latin typeface="Times New Roman"/>
              </a:rPr>
              <a:t>Удовлетворенность партнеров Центр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2" name="Rectangle 136"/>
          <p:cNvSpPr/>
          <p:nvPr/>
        </p:nvSpPr>
        <p:spPr>
          <a:xfrm>
            <a:off x="0" y="431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33" name="Диаграмма 5" descr=""/>
          <p:cNvPicPr/>
          <p:nvPr/>
        </p:nvPicPr>
        <p:blipFill>
          <a:blip r:embed="rId1"/>
          <a:stretch/>
        </p:blipFill>
        <p:spPr>
          <a:xfrm>
            <a:off x="835200" y="1901880"/>
            <a:ext cx="64008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28240" y="7621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2b20"/>
                </a:solidFill>
                <a:uFillTx/>
                <a:latin typeface="Times New Roman"/>
              </a:rPr>
              <a:t>Результаты независимой оценки качеств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04920" y="1371600"/>
          <a:ext cx="7759440" cy="5354640"/>
        </p:xfrm>
        <a:graphic>
          <a:graphicData uri="http://schemas.openxmlformats.org/drawingml/2006/table">
            <a:tbl>
              <a:tblPr/>
              <a:tblGrid>
                <a:gridCol w="1084320"/>
                <a:gridCol w="2984400"/>
                <a:gridCol w="1235160"/>
                <a:gridCol w="1295280"/>
                <a:gridCol w="116028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Показатели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стационар</a:t>
                      </a:r>
                      <a:endParaRPr b="0" lang="en-US" sz="9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полустационар</a:t>
                      </a:r>
                      <a:endParaRPr b="0" lang="en-US" sz="9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Обслуживание </a:t>
                      </a:r>
                      <a:endParaRPr b="0" lang="en-US" sz="9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на дому</a:t>
                      </a:r>
                      <a:endParaRPr b="0" lang="en-US" sz="9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 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Открытость и доступность информац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об организации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0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0,0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0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омфортность условий предоставления социальных услуг и доступность их получения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2,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21,9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7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Время ожидания предоставления социальной услуги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5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5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Доброжелательность, вежливость, компетентность работников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0,6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1,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9,9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Удовлетворенность качеством оказания услуг.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Критерий 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VI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Созидательность управленческого процесса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Arial"/>
                          <a:ea typeface="Calibri"/>
                        </a:rPr>
                        <a:t>Максимальное значение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02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104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97,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Arial"/>
                          <a:ea typeface="Calibri"/>
                        </a:rPr>
                        <a:t>Всего общие итоги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82,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82,9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0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br>
              <a:rPr sz="1800"/>
            </a:br>
            <a:r>
              <a:rPr b="0" lang="ru-RU" sz="18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0" lang="ru-RU" sz="2400" spc="-1" strike="noStrike" u="sng">
                <a:solidFill>
                  <a:srgbClr val="675e47"/>
                </a:solidFill>
                <a:uFillTx/>
                <a:latin typeface="Times New Roman"/>
              </a:rPr>
              <a:t>Наиболее высокие показатели качества оказания социальных услуг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Доступность условий для оказания услуг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Благоустройство территории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Изменение качества жизни в результате получения социальных услуг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Удовлетворенность качеством проводимых мероприятий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Полнота и доступность информации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Все перечисленные критерии имеют высокую оценку среди получателей услуг (более 95% опрошенных указывают на это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239" name="Picture 7" descr="CAM02357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5e47"/>
                </a:solidFill>
                <a:latin typeface="Cambria"/>
              </a:rPr>
              <a:t>Независимая оценка качества оказания социальных услуг </a:t>
            </a:r>
            <a:br>
              <a:rPr sz="1600"/>
            </a:br>
            <a:r>
              <a:rPr b="1" lang="ru-RU" sz="1600" spc="-1" strike="noStrike">
                <a:solidFill>
                  <a:srgbClr val="675e47"/>
                </a:solidFill>
                <a:latin typeface="Cambria"/>
              </a:rPr>
              <a:t>в сфере социального обслуживания населения Республики Карелия</a:t>
            </a:r>
            <a:br>
              <a:rPr sz="1600"/>
            </a:br>
            <a:r>
              <a:rPr b="0" lang="ru-RU" sz="18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0" lang="ru-RU" sz="2400" spc="-1" strike="noStrike" u="sng">
                <a:solidFill>
                  <a:srgbClr val="675e47"/>
                </a:solidFill>
                <a:uFillTx/>
                <a:latin typeface="Times New Roman"/>
              </a:rPr>
              <a:t>Точки роста качества оказания социальных услуг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ширение включенности получателя в разработку и реализацию нормативной правовой базы учреждения для повышения уровня осознанности получателя услуг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обходимо предусмотреть создание альтернативной версии сайта организации в сети «Интернет» для инвалидов по зрению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здание условий для развития профессионального потенциала специалистов и  своевременного повышения ими квалификации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ышение уровня соответствия оборудования оказываемому спектру услуг, согласно современным требованиям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ализ внутренней и независимой оценки качества  оказания услуг позволит  совершенствовать  качество  и повысит надежность внутренней системы оценки качества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6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5-07-07T10:46:14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